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26.pct" ContentType="image/x-pict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pct" ContentType="image/x-pict"/>
  <Override PartName="/ppt/media/image4.jpeg" ContentType="image/jpeg"/>
  <Override PartName="/ppt/media/image3.jpeg" ContentType="image/jpeg"/>
  <Override PartName="/ppt/media/image22.pct" ContentType="image/x-pict"/>
  <Override PartName="/ppt/media/image24.pct" ContentType="image/x-pict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1.pct" ContentType="image/x-pict"/>
  <Override PartName="/ppt/media/image19.pct" ContentType="image/x-pict"/>
  <Override PartName="/ppt/media/image14.jpeg" ContentType="image/jpeg"/>
  <Override PartName="/ppt/media/image20.pct" ContentType="image/x-pict"/>
  <Override PartName="/ppt/media/image1.jpeg" ContentType="image/jpeg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841D-6396-4A5C-8B8F-C3BD03F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B01B-531A-4D2D-9B8F-FB8BEA7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C44B-5803-4477-A90C-F2D4AC7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47B3-0FB2-4C30-90FF-186ECBAF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763A-803C-4993-BA33-B5B0DE85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5207-F0E9-4B6C-BC94-D637E04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30B9-5E9D-4FF8-B401-C164B763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277-C53A-4850-8E10-DD2250F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540F-819A-4C83-B6B8-5AA1128C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B4DD-A324-452B-949F-172AEB3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897-9297-400E-A057-DFBE343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EDDA-20AB-448E-86F8-E1EB127A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2339-7EB7-44A7-BCC9-26C85AB5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A9A7-FC9E-403C-9F61-E909B1A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214B-3CC9-4E16-A4E4-B786C0D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B553-F9C1-4927-8CA4-8F9FF4B6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86C6-6A4F-474E-8BC4-0884FF39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D5D0-67B1-484E-ADE2-6D1BE622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6D96-2BFC-4C80-88AF-C5C61471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48F4-908D-48BB-A32C-A775AEA8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801B-BE09-4794-927E-6FCBCF5E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9929-16FF-40EF-A38B-564EB8B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8C0A-67ED-45DF-9893-A23101E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0177-D4A6-4F68-B4EE-9AE9087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8A32-BBC6-4174-BF5B-C77B30076F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AEC-D714-469C-B749-31EFFE3412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n gold in the 2000 Olymp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ed Sonia Scown.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00 Meters tall and he weighs 97 kilo gra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7th January in 1975 Te Kui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w up on king country dairy f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59848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3048120" y="685800"/>
            <a:ext cx="441936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Interesting 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1 he was named an Officer of the New Zealand Order of Merit for his services to r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nearly gave up rowing in 1997 after struggling with a heart condition for four ye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64824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040" y="3941640"/>
            <a:ext cx="3627360" cy="21891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Early Life And Photo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17 year old standing two meters tall he made the New Zealand junior cr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96 he moved to single sculling and won a place in the New Zealand Olympic team to go to the Atlanta Olympics were he finished 7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36232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29718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acts and Photo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ebruary 2001 joined New Zealand as a grinder in the sailing teams Americas Cup def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256032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380960" y="394164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returned to rowing training at the New Zealand rowing training centre at Lake Karapiro in late 2007 and beat current world champion Mahe Drysdale at a club competition sparking a great competition between the two for the place in New Zealand at the 2003 Summer Olympic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to Kings College in Auck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17 year old he made the NZ junior cr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asked to row in the colts but refused as he had a 10 month scholar ship to Jap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ing was a sport with a strong tra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year in Japan he learned Japanese and Judo and he also got his black b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71800" y="304920"/>
            <a:ext cx="41148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ore Fac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7 won the Australian single tit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in the world cu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the first person to win the Halberg award as New Zealand’s Sports person of the year three years in a row in 1998, 1999 and 200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real name is Robert Norman Wadd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ddell started rowing at Kings College in Aucklan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905120" y="4572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fac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irst thoughts of going to the Olympics were in 1992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inter of 2003 Waddell began to play rugby again in his leisur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also competed in the 2008 Olymp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284508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175284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14600" y="2209680"/>
            <a:ext cx="1066680" cy="1538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120" y="220968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510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638680" y="228600"/>
            <a:ext cx="289584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80880" y="380880"/>
            <a:ext cx="5943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Facts and Photo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dell earned a seat in New Zealand’s double sculls rowing bow behind Nathan Coh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2000 Olympics Rob took up a position on the Ñew Zealand Americas Cup Boat which he has also returned to after the 2008 Olymp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0" y="53352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re fac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Even More Fact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Olympics he retired from rowing trying out a number of other sports including rug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ddell was the best rower on the planet winning consecutive world championships in 1998-99 and a unforgetable single sculls gold medal at the 2000 Sydney Olympic game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Rob Waddell 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quite a contrast to his days in the singles where he used to feel if he could have a bad day and still walk into the fina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13320" y="1600200"/>
            <a:ext cx="250668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27204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hotos 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63512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3272040" cy="218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463760" cy="21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1295280" cy="226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438280" y="220968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43200" y="480060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28195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943600" y="152280"/>
            <a:ext cx="25146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Winning Olympic Gold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Waddell has broken world records by winning the world championships single sculls title in two consecutive years1998-99 the heavy weight indoor title three times and winning gold in single sculls race at the Sydney Olympics in 200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32479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13:13Z</dcterms:created>
  <dc:creator>Tim Marriott</dc:creator>
  <dc:description/>
  <dc:language>en-US</dc:language>
  <cp:lastModifiedBy>Tim Marriott</cp:lastModifiedBy>
  <cp:lastPrinted>1904-01-01T00:00:00Z</cp:lastPrinted>
  <dcterms:modified xsi:type="dcterms:W3CDTF">2008-09-23T22:28:05Z</dcterms:modified>
  <cp:revision>13</cp:revision>
  <dc:subject/>
  <dc:title>Rob Waddell</dc:title>
</cp:coreProperties>
</file>